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B7C68-E70F-465A-9696-6B4383893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87F8C-8E05-4319-9096-013D4E756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B890B-EBC9-4FBD-BC9B-044D9AF43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CE16A-D7F3-49F4-BD13-48DF04CFE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2CDF3-C3F0-47E0-9FF8-03F0E3803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64A6A-3B3D-4AE6-A358-34CB6825E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C34D5-74C9-46AE-A39A-8D025B524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DFD5D-2058-46BE-95E6-861C2E0FC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EB18B-F7F7-42E1-AD1B-BFAE7D75D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931BD-6865-4632-9158-B08D86A8E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07102-A3DC-49D0-937A-0C713B98A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74B03-D6F0-4D70-B60A-901755507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6F949-B74D-47C7-B3FF-4AC9B4BE8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450A2-0B36-4796-9965-B1AF934B1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267E3-10F6-4C7E-8F2D-24027A0F8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CC53F-0E95-4065-9794-B3CDA9C18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08814-E725-4379-9F1D-7B543CD6D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2371A-3EC2-48CB-9CC0-905274864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380DC-0CE6-4052-AB2B-D9162988B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E15A5-2F5D-4F32-A8F5-82E785688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593D5-D53A-4DAF-B9B8-338AA6C1B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29C01-CCEB-4C0B-BE4B-7A1EA1456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17809-6F71-4638-9E5F-412607CE2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42889-CAA8-423C-9489-082980605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C2A8-ABAF-4814-9C60-E8F2D0A71124}" type="slidenum">
              <a:rPr b="0" lang="lv-LV"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33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066D-636E-4301-9005-E2020972F2DC}" type="slidenum">
              <a:rPr b="0" lang="lv-LV"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3300"/>
            </a:gs>
          </a:gsLst>
          <a:lin ang="54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908000" y="-243000"/>
            <a:ext cx="4991400" cy="7488360"/>
          </a:xfrm>
          <a:prstGeom prst="rect">
            <a:avLst/>
          </a:prstGeom>
          <a:ln w="0">
            <a:noFill/>
          </a:ln>
        </p:spPr>
      </p:pic>
      <p:sp>
        <p:nvSpPr>
          <p:cNvPr id="83" name=""/>
          <p:cNvSpPr/>
          <p:nvPr/>
        </p:nvSpPr>
        <p:spPr>
          <a:xfrm>
            <a:off x="2050920" y="-1618920"/>
            <a:ext cx="4464360" cy="393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700" spc="-1" strike="noStrike">
                <a:solidFill>
                  <a:srgbClr val="ffffff"/>
                </a:solidFill>
                <a:latin typeface="Balloon Lt TL"/>
              </a:rPr>
              <a:t>Par KONCERTprogrammu</a:t>
            </a:r>
            <a:endParaRPr b="0" lang="en-US" sz="3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84" name=""/>
          <p:cNvSpPr/>
          <p:nvPr/>
        </p:nvSpPr>
        <p:spPr>
          <a:xfrm>
            <a:off x="2411280" y="3428280"/>
            <a:ext cx="3457800" cy="374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alloon Lt TL"/>
              </a:rPr>
              <a:t>MANĀ</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alloon Lt TL"/>
                <a:ea typeface="Times New Roman"/>
              </a:rPr>
              <a:t>  </a:t>
            </a:r>
            <a:r>
              <a:rPr b="1" lang="en-US" sz="4800" spc="-1" strike="noStrike">
                <a:solidFill>
                  <a:srgbClr val="ffffff"/>
                </a:solidFill>
                <a:latin typeface="Balloon Lt TL"/>
              </a:rPr>
              <a:t>č</a:t>
            </a:r>
            <a:r>
              <a:rPr b="1" lang="en-US" sz="4800" spc="-1" strike="noStrike">
                <a:solidFill>
                  <a:srgbClr val="ffffff"/>
                </a:solidFill>
                <a:latin typeface="Balloon Lt TL"/>
                <a:ea typeface="Times New Roman"/>
              </a:rPr>
              <a:t>etristabu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alloon Lt TL"/>
                <a:ea typeface="Times New Roman"/>
              </a:rPr>
              <a:t>      </a:t>
            </a:r>
            <a:r>
              <a:rPr b="1" lang="en-US" sz="4800" spc="-1" strike="noStrike">
                <a:solidFill>
                  <a:srgbClr val="ffffff"/>
                </a:solidFill>
                <a:latin typeface="Balloon Lt TL"/>
                <a:ea typeface="Times New Roman"/>
              </a:rPr>
              <a:t>sird</a:t>
            </a:r>
            <a:r>
              <a:rPr b="1" lang="en-US" sz="4800" spc="-1" strike="noStrike">
                <a:solidFill>
                  <a:srgbClr val="ffffff"/>
                </a:solidFill>
                <a:latin typeface="Balloon Lt TL"/>
              </a:rPr>
              <a:t>ī</a:t>
            </a:r>
            <a:r>
              <a:rPr b="1" lang="en-US" sz="4800" spc="-1" strike="noStrike">
                <a:solidFill>
                  <a:srgbClr val="ffffff"/>
                </a:solidFill>
                <a:latin typeface="Balloon Lt TL"/>
                <a:ea typeface="Times New Roman"/>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85" name="" descr=""/>
          <p:cNvPicPr/>
          <p:nvPr/>
        </p:nvPicPr>
        <p:blipFill>
          <a:blip r:embed="rId2"/>
          <a:stretch/>
        </p:blipFill>
        <p:spPr>
          <a:xfrm>
            <a:off x="4419720" y="3276720"/>
            <a:ext cx="304560" cy="304560"/>
          </a:xfrm>
          <a:prstGeom prst="rect">
            <a:avLst/>
          </a:prstGeom>
          <a:ln w="0">
            <a:noFill/>
          </a:ln>
        </p:spPr>
      </p:pic>
      <p:pic>
        <p:nvPicPr>
          <p:cNvPr id="86" name="" descr=""/>
          <p:cNvPicPr/>
          <p:nvPr/>
        </p:nvPicPr>
        <p:blipFill>
          <a:blip r:embed="rId3"/>
          <a:stretch/>
        </p:blipFill>
        <p:spPr>
          <a:xfrm>
            <a:off x="4427640" y="3284640"/>
            <a:ext cx="304560" cy="30456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77363"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33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Balloon Lt TL"/>
              </a:rPr>
              <a:t>Manā četristabu sirdī</a:t>
            </a:r>
            <a:r>
              <a:rPr b="0" lang="en-US" sz="4000" spc="-1" strike="noStrike">
                <a:solidFill>
                  <a:srgbClr val="ff3300"/>
                </a:solidFill>
                <a:latin typeface="Balloon Lt TL"/>
              </a:rPr>
              <a:t> </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r stāsts par cilvēku, kurš raibajā ikdienas dzīvē ir pazaudējis sevi. Ar  piepūli viņš cenšas rast atbildes uz jautājumiem par dzīves jēgu. Koncerta atrisinājumā, viņš atrod sevi, saprot, ka ar smaidu un mīlestību var panākt daudz, un dot dzīvesprieku arī citie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opulāras latviešu komponistu dziesmas mijas ar dziļdomīgiem prozas tekstiem, veidojot melodramatisku sižetu.</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Koncertā piedalās 3 cilvēki (vokāls, instrumentālists, aktieris). Programmas garums 45 mi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1T12:33:00Z</dcterms:created>
  <dc:creator>MARITE</dc:creator>
  <dc:description/>
  <dc:language>en-US</dc:language>
  <cp:lastModifiedBy>MARITE</cp:lastModifiedBy>
  <dcterms:modified xsi:type="dcterms:W3CDTF">2011-04-21T12:33:26Z</dcterms:modified>
  <cp:revision>1</cp:revision>
  <dc:subject/>
  <dc:title>Slide 1</dc:title>
</cp:coreProperties>
</file>